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A03-FB0F-4BB2-B1D0-40867D50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1E5-0E25-44D2-9E04-43605476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D38-846F-4CFE-A732-D9F07184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D21-64BC-4D84-BF09-E29F1C27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C3C-615E-4E43-9AA0-9BC9D17F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1B7-9A0E-451B-89F6-2E582433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808-134F-45A7-888C-5996B41B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0C1-30AE-4BAE-A033-DDBB30E4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75B-5180-47CD-9250-C5D4962C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0FD-7493-47EA-B1C4-7F8285E0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209-D2D7-44E0-B5C5-1634414C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6B3-8335-479B-9AE4-2B0F73F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FC861-ECCE-4807-9BB0-E64608D369D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59000" y="1619280"/>
            <a:ext cx="7821360" cy="4921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CIENT 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Roman Republ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ome was founded in 625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ome only had 7 kings: after that, the people of Rome (called Romans) decided to govern themselves.  They created the Roman Republ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he Roman Republic lasted for almost 500 years, until 23 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62480" y="4859280"/>
            <a:ext cx="35575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Rom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ulius Caesar conquered Rome in 49 BC.  He was the dictator of Rome until he was mur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fter Caesar, there were many more Roman Emperors such as Augustus, Hadrian, and the famous Constant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0360" y="468000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672080"/>
            <a:ext cx="431964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Fall of 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 the year 476 AD, Rome was conquered by the Visigoths.  They were from the North and East of Europ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he end of the Roman Empire came in 1453, when Constantinople, one of the most important cities in the Empire, was conquered by the Turk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9280" y="3959280"/>
            <a:ext cx="504036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ome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334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oman ruins can be found in many places, not just Rome.  There are many remains of Rome's great Empire, such as mosaics, coins, aqueducts, and even temp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ople called archaeologists dig up and study the Roman ruins to learn more about Roman socie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0720" y="5580000"/>
            <a:ext cx="1979640" cy="144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60720" y="558000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443560" y="5580000"/>
            <a:ext cx="229536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920000" y="5580000"/>
            <a:ext cx="197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10:12Z</dcterms:created>
  <dc:creator>manuel perujo</dc:creator>
  <dc:description/>
  <dc:language>en-US</dc:language>
  <cp:lastModifiedBy/>
  <cp:revision>1</cp:revision>
  <dc:subject/>
  <dc:title/>
</cp:coreProperties>
</file>